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B968-4E9B-4A01-9BE8-E8D5F110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210-E507-44D1-AD9A-6400978B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DC0-E579-4C86-B857-3FCCE0019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D7F-4B15-4B67-B578-F422C4DA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5DD-DAB3-47F3-BFBF-92F20CB0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8B0D-1806-46F2-95F3-412593E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C7F-DB76-4132-BEAB-9091DCCB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F5CC-CA06-4A03-9EF0-1D9B523F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BF4-A194-4024-A796-B1461A0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1FF-99B4-4AE9-8820-6D9CD6B1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8B77-3440-4E45-B585-FDD85302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B5B-1C25-4ECB-8E00-7E82E743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FA63-DADC-47C8-B63A-14396031E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2560" y="10944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06 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13240" y="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3408480"/>
            <a:ext cx="45925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17:43:41Z</dcterms:modified>
  <cp:revision>3</cp:revision>
  <dc:subject/>
  <dc:title>Slide 1</dc:title>
</cp:coreProperties>
</file>