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7E0-7EC5-4244-B708-16963255E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28C-CE7B-44FF-9C50-87C3B6C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6AB-509B-4485-A7A7-A6C9CF27B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326-08A6-4356-9848-600679881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29F3-2529-4D41-93C9-9CB5BCC4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F75E-4366-436F-9ECB-B7D1DDF3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C84-11AF-4670-AD1D-359C2919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A82-2935-4803-82D7-256D4BE3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E874-6C36-4480-B58E-19B0A716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FE1-1A00-430A-8AB1-11ADBAC4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E94-114A-4DC7-A478-D99F34D4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324-CD4E-4AD6-910E-DF405CCC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E670-6A71-4AD8-A51D-E7902D2CC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95760" cy="3456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29080" y="-20520"/>
            <a:ext cx="4592880" cy="3449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235480" y="328932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-20520" y="3281400"/>
            <a:ext cx="46861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00:18Z</dcterms:created>
  <dc:creator>Ian Russell</dc:creator>
  <dc:description/>
  <dc:language>en-US</dc:language>
  <cp:lastModifiedBy>Ian Russell</cp:lastModifiedBy>
  <dcterms:modified xsi:type="dcterms:W3CDTF">2013-05-23T18:42:09Z</dcterms:modified>
  <cp:revision>6</cp:revision>
  <dc:subject/>
  <dc:title>Slide 1</dc:title>
</cp:coreProperties>
</file>