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D83-7799-4BB2-B579-652E1D87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C4F5-7528-46C2-9E4B-4EF91C30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FD0-319E-4F3D-B396-18BA472C6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6AF3-B86D-4A9C-97AE-B35C5067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8DB-CAEA-4A11-8939-4112A5DF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8F7-8238-44CF-A83A-9DF7DE55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D0F-5B3F-4972-837B-C2F1C41E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02B-EB4A-4A72-9DE1-17CC61B1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1DD9-2AB1-400D-BCBC-8966B727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555-067B-4357-B0BC-9729499B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C66-586D-4087-815F-6D51ECF52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67C-FEEE-44D8-9914-7A399CBE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A129-F8C9-4CB3-AB04-9267F3792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76520" y="1658880"/>
            <a:ext cx="472104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2:00:18Z</dcterms:created>
  <dc:creator>Ian Russell</dc:creator>
  <dc:description/>
  <dc:language>en-US</dc:language>
  <cp:lastModifiedBy>Ian Russell</cp:lastModifiedBy>
  <dcterms:modified xsi:type="dcterms:W3CDTF">2013-05-23T17:54:06Z</dcterms:modified>
  <cp:revision>6</cp:revision>
  <dc:subject/>
  <dc:title>Slide 1</dc:title>
</cp:coreProperties>
</file>