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8C2-C027-44FE-A741-56AE1521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877F-3453-42F3-85C7-16E1C12C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A039-CE7C-4830-A83B-B186CF0E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DCD5-CB31-42A3-8189-A0F5D754C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9DE6-EA71-4C8C-82C7-6EF6F87B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C25-40A5-443E-BDFE-F580860F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C54-2D07-4FD4-AE50-A1E6838E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E27-39C3-4193-BC6C-C7459E80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FA8B-8FEE-4A66-A636-FDCDD11AC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842D-6D9E-4361-ACAE-FE2BDC2B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EAB9-E6F9-4110-8487-1698FF78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B934-4FE0-4A75-B97D-9C6FFDB0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6499-24DB-4A64-967F-83F7E59BE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28880" y="1094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e 114 Cx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92520" cy="3449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13240" y="-20520"/>
            <a:ext cx="4592880" cy="344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3408480"/>
            <a:ext cx="4592520" cy="3449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728880" y="36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use 116 Cx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16:12:26Z</dcterms:created>
  <dc:creator>Ian Russell</dc:creator>
  <dc:description/>
  <dc:language>en-US</dc:language>
  <cp:lastModifiedBy>Ian Russell</cp:lastModifiedBy>
  <dcterms:modified xsi:type="dcterms:W3CDTF">2013-05-22T20:41:48Z</dcterms:modified>
  <cp:revision>6</cp:revision>
  <dc:subject/>
  <dc:title>Slide 1</dc:title>
</cp:coreProperties>
</file>