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AAC-F346-47C7-B0E6-9BA37813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8D6B-A915-44F4-8B88-59101C55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596-67C0-4D45-8E79-85B9E6AC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D8D4-B6F4-4B48-9FB3-B7F06ABDA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3DB4-D721-404E-826D-F69A0833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F1B-DA1A-4FBE-B4A8-1C698C3B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084-8EAC-4BF4-8CED-55600261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D7F-358F-4FEA-9039-19607CD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AA5-55FC-4F1E-A128-C80E3956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AEDF-C0C7-469B-91EB-58E2A2F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B9B-6902-470F-9804-561AA03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DFB-3B35-4200-867B-C40BFBC9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0E75-2F8B-432F-ABE0-56AD085C8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28880" y="1094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14 Cx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20:38:18Z</dcterms:modified>
  <cp:revision>5</cp:revision>
  <dc:subject/>
  <dc:title>Slide 1</dc:title>
</cp:coreProperties>
</file>