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7A8-216C-4E65-AFB2-95452E38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7CA0-B707-4807-AD93-389253B0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8E2-3F31-4606-A88C-C846DC09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A42E-5971-4217-AC3F-CD2F5BCAA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2957-C361-4D3C-AFF6-5D34599E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956B-47F1-49AF-9D14-1023BE3D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E68-FAC8-4AD9-8A02-E4529B7D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5C4E-13E1-42A5-9AD0-27736D4B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100-94FD-4D69-B2D2-0A5AAA8D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670-4354-4C24-8828-7096F4B3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A4A-AFE9-4247-ADE4-8A71E9B2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DD5-7F22-4665-9EDB-EB031474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535C-B3D9-4421-8E1B-636577F2C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52880" y="0"/>
            <a:ext cx="4686480" cy="35244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925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12:00:18Z</dcterms:created>
  <dc:creator>Ian Russell</dc:creator>
  <dc:description/>
  <dc:language>en-US</dc:language>
  <cp:lastModifiedBy>Ian Russell</cp:lastModifiedBy>
  <dcterms:modified xsi:type="dcterms:W3CDTF">2013-06-07T09:48:47Z</dcterms:modified>
  <cp:revision>8</cp:revision>
  <dc:subject/>
  <dc:title>Slide 1</dc:title>
</cp:coreProperties>
</file>