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D675-45E2-487F-8C73-59C10446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0F5-D16C-4F65-9B6E-2EB6C7E5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5EFB-A2D1-4D77-AF7A-8721699DD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2822-980D-4139-9D2A-0A3F45BF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7543-D0E9-4C78-BFBA-A11D1413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039-70D5-42A0-A180-57C38E77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5FAF-DB9D-4DAD-8B5D-EE50F2CB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0E7A-614F-4DDE-9BE3-1063D217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2C2-EAAD-43F3-9012-F4251309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1F8-AF99-46CE-83A0-7FF81BDC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84D-1763-427B-8A48-1C159396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FB00-3DAC-4BEC-99C6-11F2FF88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6DCA-3DD1-4CB6-9231-9D5276568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6480" cy="352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686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2:00:18Z</dcterms:created>
  <dc:creator>Ian Russell</dc:creator>
  <dc:description/>
  <dc:language>en-US</dc:language>
  <cp:lastModifiedBy>Ian Russell</cp:lastModifiedBy>
  <dcterms:modified xsi:type="dcterms:W3CDTF">2013-06-06T05:04:27Z</dcterms:modified>
  <cp:revision>8</cp:revision>
  <dc:subject/>
  <dc:title>Slide 1</dc:title>
</cp:coreProperties>
</file>