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1C0E-43AA-4421-BDA9-D86C50B44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5493-CE53-475C-AF24-BFAF331D5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5511-8F0C-499D-A2A8-E9A855F6A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5CA8-9789-4EC0-A34B-CCCE52FAA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ADAB-A914-4CC5-9743-D9B033AA9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848A-3C33-4B2D-A6E7-6AEA42646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E919-65A1-45C6-9384-990CE0AAE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933A-357A-4516-AAF2-EF9C98657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0687-5B8C-4174-97F0-1C0DC9E28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A472-1E82-4B16-B15E-8D713964D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3B28-F319-4A33-9E69-D606A779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617A-1E57-48E8-A715-91AB1145E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A505B-30B4-4ABD-B2C2-4A8521A193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728880" y="10944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se 114 Cx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92520" cy="3449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313240" y="-20520"/>
            <a:ext cx="4592880" cy="3449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-15840" y="3335400"/>
            <a:ext cx="4602240" cy="34495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877200" y="3592440"/>
            <a:ext cx="20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use D450 Cx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2T16:12:26Z</dcterms:created>
  <dc:creator>Ian Russell</dc:creator>
  <dc:description/>
  <dc:language>en-US</dc:language>
  <cp:lastModifiedBy>Jan Russell</cp:lastModifiedBy>
  <dcterms:modified xsi:type="dcterms:W3CDTF">2013-05-23T07:46:02Z</dcterms:modified>
  <cp:revision>6</cp:revision>
  <dc:subject/>
  <dc:title>Slide 1</dc:title>
</cp:coreProperties>
</file>