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1D81-5284-4638-B438-63DD7062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5D3-DDB6-4B7B-9A39-C8913CC8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5BF-5C4C-4F6F-B994-0F1F090F0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7C0B-00BB-43F2-B659-1041A7C3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DE28-F528-4FD4-BB9C-D596A09D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6ACF-B036-49CF-B875-5AFED198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B4A-9E24-4A8D-8F0B-1C727AC4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A47-0D0E-4E83-A980-E3FBDAAE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33C6-4BA8-4CE1-B93B-C0B42E86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8DB-FC0F-46F2-AB72-245878BE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AEA9-905F-460D-B3C6-F5090C59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CA3-B389-4118-8B35-F163897F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5295-3000-477A-B31F-C07B2CB8B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2560" y="109440"/>
            <a:ext cx="18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109 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459252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13240" y="-20520"/>
            <a:ext cx="459288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Ian Russell</cp:lastModifiedBy>
  <dcterms:modified xsi:type="dcterms:W3CDTF">2013-05-22T18:03:21Z</dcterms:modified>
  <cp:revision>4</cp:revision>
  <dc:subject/>
  <dc:title>Slide 1</dc:title>
</cp:coreProperties>
</file>