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A7D0-CCA0-41F7-BB6D-0FA1B4172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7066-92DA-48D5-85E3-DACA2DAD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E61-8AF8-4B25-8893-882A013D5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932C-7B10-4C04-9DDD-BDCC4CB0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CD37-E69C-44D2-AEF0-A6CE6177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620B-0466-4737-9845-6C10F76C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A83-4D08-46E7-AFC9-0CD586FE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6D6-341F-471B-9068-90ED1F6D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AB8F-2C0D-403F-863E-2D4825AE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468C-09CD-443C-BB8B-4F58B1D7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461-C3CE-4517-8656-86225E3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A4D4-F384-43F8-B530-EEF51C6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F72F-34EC-4CC7-A1DF-DA00FEC97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25440" y="1094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 101 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13240" y="-20520"/>
            <a:ext cx="459288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15840" y="-27000"/>
            <a:ext cx="4592520" cy="3449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89080" y="3284640"/>
            <a:ext cx="45925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Ian Russell</cp:lastModifiedBy>
  <dcterms:modified xsi:type="dcterms:W3CDTF">2013-05-22T17:35:34Z</dcterms:modified>
  <cp:revision>2</cp:revision>
  <dc:subject/>
  <dc:title>Slide 1</dc:title>
</cp:coreProperties>
</file>