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970A-E393-461D-B9C0-0539A676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031-DC2B-439D-AE96-6656B96F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01C-2956-442A-8821-B26625E40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300-EB5D-4AA1-A0D3-0BEDF016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0235-CBE2-4A83-87D8-4F245837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50C-F3F9-458D-BC43-3EEB068E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738-5C94-4948-AA06-5B997B0B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DFE-ADDB-4352-9469-3B7FDD64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FF06-961B-47D1-993E-03B97EF2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9C2-8BB3-47AB-BD31-8DFC3571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CE92-116D-431E-868F-B3DC1223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CB3-C9C4-49BC-96D5-F1AFB6AE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B534-3432-4E15-8771-436F6A9B2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13240" y="-20520"/>
            <a:ext cx="4592880" cy="3449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92520" cy="3449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-15840" y="3363840"/>
            <a:ext cx="4592520" cy="3449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25440" y="10944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e 111 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16:12:26Z</dcterms:created>
  <dc:creator>Ian Russell</dc:creator>
  <dc:description/>
  <dc:language>en-US</dc:language>
  <cp:lastModifiedBy>Ian Russell</cp:lastModifiedBy>
  <dcterms:modified xsi:type="dcterms:W3CDTF">2013-05-22T16:32:50Z</dcterms:modified>
  <cp:revision>1</cp:revision>
  <dc:subject/>
  <dc:title>Slide 1</dc:title>
</cp:coreProperties>
</file>