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0845-D764-4CD5-896F-CCC8D85E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E35A-B633-427F-B049-4DC99F9C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F24A-C49A-4069-9048-22BC2FE3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3C6-B80D-4E14-88E5-B28CEDDA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A57-27B1-4D4A-9C4C-CFE3287D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39-9F88-41D9-ADC8-67D3B2D7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8BC-2D07-44BE-9003-00847D9D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F23-77CF-422A-9F94-A4CC7118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F71-9823-4C8B-8A1D-DFB39771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E2E1-9403-413D-B466-5D85E6CB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C60A-CE98-44A3-8DE5-E80046E0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35F-D7C2-4D78-BB56-E27A5E1E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54A7-0B34-436A-ACD5-0E9F1054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1400" cy="3540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000" y="4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19640" y="0"/>
            <a:ext cx="4686480" cy="35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84400" y="349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59400" y="38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13240" y="3408480"/>
            <a:ext cx="4592880" cy="34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4220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6480" cy="352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000" y="4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00:18Z</dcterms:created>
  <dc:creator>Ian Russell</dc:creator>
  <dc:description/>
  <dc:language>en-US</dc:language>
  <cp:lastModifiedBy>Ian Russell</cp:lastModifiedBy>
  <dcterms:modified xsi:type="dcterms:W3CDTF">2013-06-07T12:36:49Z</dcterms:modified>
  <cp:revision>9</cp:revision>
  <dc:subject/>
  <dc:title>Slide 1</dc:title>
</cp:coreProperties>
</file>