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DD4-5F3A-41F7-AE70-F61A1B58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46D-A63B-41D9-BFDE-F05ACEA1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C24B-8322-4485-8D3A-03C850EEC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2F72-42A9-403E-B233-1C60A7A9C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995-F40B-4BEF-A2AF-72955B41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EC69-06A8-4776-A663-D9613362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CE41-A0BC-46EC-956C-9FF96D0D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8F9E-A6D2-4CEC-A802-1DBA6C0D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6036-E3E9-45AB-98B1-A9E752E4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3C23-D699-456F-B865-218C6C55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407E-4E47-476A-86F9-90A6591C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D507-6342-4F78-A124-54BEBAF1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1033-2F55-444E-B259-B641ED843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41520" y="1268280"/>
            <a:ext cx="6867360" cy="5150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49760" y="423720"/>
            <a:ext cx="414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M mean phase ± s.d of ‘passive’ 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surements made of average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 – 85 dB SPL. N ≥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16:12:26Z</dcterms:created>
  <dc:creator>Ian Russell</dc:creator>
  <dc:description/>
  <dc:language>en-US</dc:language>
  <cp:lastModifiedBy>Jan Russell</cp:lastModifiedBy>
  <dcterms:modified xsi:type="dcterms:W3CDTF">2013-05-23T07:51:15Z</dcterms:modified>
  <cp:revision>7</cp:revision>
  <dc:subject/>
  <dc:title>Slide 1</dc:title>
</cp:coreProperties>
</file>