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6EF-F8E3-45D3-AE75-E6ACE19B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D4F6-B875-4181-BF50-59F20BE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3846-51EA-494D-99DB-BF95DD6B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36B-68A5-482D-A5F9-42D118483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661-8096-4945-9478-404F9BF3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D57E-B62E-438E-A943-C3F8CF71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95A-5371-46EF-9E82-0A8A497F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A52-E863-4180-A9CE-543777B7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35BA-D2B5-49E9-A558-7A9B64CB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75E-E091-4D84-9BF0-DA647E62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943-1A5E-4649-8385-A9B02275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6CF-39B2-4081-8FA0-7C1BF3DB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C72-E0B4-4E62-94CD-A3861DDA8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25440" y="1094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 D499 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95400"/>
            <a:ext cx="4686480" cy="352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52880" y="-95400"/>
            <a:ext cx="4686480" cy="352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4700520" cy="352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010120" y="3335400"/>
            <a:ext cx="46958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6:12:26Z</dcterms:created>
  <dc:creator>Ian Russell</dc:creator>
  <dc:description/>
  <dc:language>en-US</dc:language>
  <cp:lastModifiedBy>Jan Russell</cp:lastModifiedBy>
  <dcterms:modified xsi:type="dcterms:W3CDTF">2013-05-27T04:55:42Z</dcterms:modified>
  <cp:revision>6</cp:revision>
  <dc:subject/>
  <dc:title>Slide 1</dc:title>
</cp:coreProperties>
</file>